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A95-ECB9-48DA-B005-7C852CBC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643-29F7-4EE6-8FF8-0825143C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CE4-B394-4B0C-97B6-0720C7DA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F28-C036-4681-9F75-A3BFCD94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A0B-85CD-45B3-92CA-EF7B889C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A0E-17A2-49BB-9DCD-D4AB3CA9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B52-1F55-48F9-8C01-2FAD2E7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223-5824-41EF-B71A-9530CC58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697-B611-4173-BD27-2FC8C28C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F85-34AE-4603-A8DA-1F6E908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219-3CB1-43F8-BFBD-6DAE5369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B61-7A6B-4C6D-8083-EFCD2EF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A1EF-60A2-4B57-A37A-6DF29B084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B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We will use 3 x 150,000 L fermen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ing and maintain 12hrs, ? What cleaning solution to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ing algae ( first 43 hrs is exponential, then stationary up to 74 h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74 hrs no growth just producing lipids for next 48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Growing 122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134 hrs per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t calculated yet is step up process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e processing of the algae 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Sterilization Time ??? We are going to run the used medium through a heat 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proper temperature and Psig for certain amount of time, so that we don’t have to keep fluctuating the fer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27:57Z</dcterms:created>
  <dc:creator>xplabpc</dc:creator>
  <dc:description/>
  <dc:language>en-US</dc:language>
  <cp:lastModifiedBy>xplabpc</cp:lastModifiedBy>
  <dcterms:modified xsi:type="dcterms:W3CDTF">2010-02-05T23:30:01Z</dcterms:modified>
  <cp:revision>3</cp:revision>
  <dc:subject/>
  <dc:title>Yields</dc:title>
</cp:coreProperties>
</file>